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cashreg.wav" ContentType="audio/x-wav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CD37-BF6F-4282-8E48-FEB94B39B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B29C-32DC-4518-9B57-7A0BEDF76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373F-ED7C-406F-9FE4-A1B660C56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2621-20E8-4FB1-9851-21F979060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2904-CE81-41FB-8FA7-E19A1253C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8959-C9D4-41E2-951F-F742D4E11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0E60-34F6-457E-8420-EAB9023AD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65D9-BC3D-45C2-8C8E-DA83CCD88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5189-EDFE-4AD0-97F6-57B10A38F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3416-FF48-4A7C-B4A8-A3E039A4D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826C-FA24-431E-94C8-F05D2E685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989E-2A20-4EEC-A762-0299AD5CC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F87-ACD8-4C1E-9D31-7F486BE8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329-00EA-47E9-A720-33542BE7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2BD-DD1D-4EC8-8A39-72D3F216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1FA-3CD5-4B06-9C5D-E9FE32A2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5281-ACF2-44E7-9EF0-42F4A677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4761-6CB7-4116-B3F3-CDB2CA49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397E-8E9C-4E0E-82A3-BFE3A1BE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5719-F731-499E-BEE4-499E4F00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C76A-ED9E-4971-A7D6-9CC74725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2F74-D6D7-47E9-BE20-BFE9571C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F7B8-9754-4C43-A62C-C4F2F73B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2AD-B317-41CE-AF24-C41DA952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DE04-2EB1-4747-997A-FA083CFF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FF9C-EE3A-4D0F-9D5F-0041EFBC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E9BC-7CB7-482E-BAAA-087B80BB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2EDE-D72F-4671-8CDB-7FB0C47E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71D9-1391-4414-AF06-8D1ABD74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215DB-3FD2-474D-8464-DB12CF50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E47B4-17BF-41AD-A910-0B95F810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79238-0BD4-47F9-864B-A3FE240D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96CDC-A30C-422E-B307-BA04D008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E4722-F122-4950-ABF8-188D07C4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EA9-92AD-4235-8275-61960FB3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4D1C2-CDF4-47FF-A89F-F2B78CB1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93E5-C625-4C89-8111-94C6835D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6534D-1B16-4D8F-AD64-439DDC03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F98E6-B228-4F44-84AE-E1013A9E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A67AF-7292-464D-8F28-15AACD99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4D9D6-907F-400A-98A7-D631D615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67927-6616-4F88-AF76-C7E096EA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B44BD-9472-4630-86D6-79669B71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17860-3A84-4D31-AC69-45333DCC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45E33-4C55-4438-901E-0148E355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35D-0649-4ADF-83CB-803906F9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CFE96-C13C-4568-B3E7-01216FBB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C7904-707F-46CB-84D4-8DE40985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2887A-1B23-4F55-975A-39AF0797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6F5FA-7249-4356-9F51-141C4F40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52C54-D2AD-457E-949F-025F7CDA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59324-EF3B-47F1-B18B-C767F575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616C8-778A-4CAE-866D-84B35CB4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9A2E4-1447-4387-8234-D86D7619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0D6CE-AE04-4496-9E52-19391FE6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E8E05-29BD-4105-A223-D932A597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0A6-5667-4154-AB51-3240DE13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709AB-0875-46F5-AB20-D6F7D5A9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C00AA-F3A6-432A-AC87-1E92E0BD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766D2-2A4E-4BB5-AC41-850993D8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CEB5F-B409-4523-9783-30F09B2D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E7FAD-544B-44B8-A2D6-D09C6A4C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771D4-14B5-407D-A134-15C5AAE8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DBD77-D783-49D5-8455-105EC5E1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6722D-9B1A-4624-92BA-CF1B20C5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0B327-30EC-4014-B887-551EE5D3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51EFF-A3CC-4EFA-B88A-03B8A32C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695-4A9B-4FDD-AB3E-DD8FEE2F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DC965-38C7-47BE-8C5C-CDF09AAB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297-BE36-4B7F-BA07-D7C8B329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967-0881-48F1-B599-86EA33B7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53F-B4B6-4012-8444-7F87826B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FCF4-1C24-4648-B774-7559605A548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5BA6-F77D-45D8-8BB6-5D2F0A758DA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ED04-4A42-46C7-BBBE-5C2299DD010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69F5-049F-4315-853A-DA92FC9CEDC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E8D1-06B7-44BF-AAA8-1CE722126A0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conedlink.org/lesson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Ch. 7 Economic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lementary Social Studies; A Practical Gu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766f"/>
                </a:solidFill>
                <a:latin typeface="Verdana"/>
              </a:rPr>
              <a:t>Created by, Lee-Anne T. Spalding, M. 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" descr="C:\Program Files\Microsoft Office\MEDIA\CAGCAT10\j0222015.wmf"/>
          <p:cNvPicPr/>
          <p:nvPr/>
        </p:nvPicPr>
        <p:blipFill>
          <a:blip r:embed="rId1"/>
          <a:stretch/>
        </p:blipFill>
        <p:spPr>
          <a:xfrm>
            <a:off x="152280" y="3505320"/>
            <a:ext cx="273384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2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Mone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rning Experiences p. 23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cy from around the wor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ning Money p. 23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nding Money p.23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tch My Education Lab video- Econo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 Class store id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ank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re banks?  Other examples of economic institu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responses have you heard in your interview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kidsbank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nking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is a Safe Pla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nk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eld Tr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Why Economics Education? Economic Vocabular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is it important to educate students in the area of economic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literacy (personal finance, financial education, financial planning), consumer literacy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K Economic Standar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S.K.E.1.1: Describe different kinds of jobs that people do and the tools or equipment used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S.K.E.1.2: Recognize that United States currency comes in different form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S.K.E.1.3: Recognize that people work to earn money to buy things they need or wan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S.K.E.1.4: Identify the difference between basic needs and want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3</a:t>
            </a:r>
            <a:r>
              <a:rPr b="1" lang="en-US" sz="3600" spc="-1" strike="noStrike" baseline="30000">
                <a:solidFill>
                  <a:srgbClr val="ff8d3e"/>
                </a:solidFill>
                <a:latin typeface="Verdana"/>
              </a:rPr>
              <a:t>rd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Grade Economic Standar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S.3.E.1.1: Give examples of how scarcity results in trad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S.3.E.1.2: List the characteristics of money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S.3.E.1.3: Recognize that buyers and sellers interact to exchange goods and services through the use of trade or money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S.3.E.1.4: Distinguish between currencies used in the United States, Canada, Mexico, and the Caribbea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5</a:t>
            </a:r>
            <a:r>
              <a:rPr b="1" lang="en-US" sz="3600" spc="-1" strike="noStrike" baseline="30000">
                <a:solidFill>
                  <a:srgbClr val="ff8d3e"/>
                </a:solidFill>
                <a:latin typeface="Verdana"/>
              </a:rPr>
              <a:t>th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Grade Economic Standar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.5.E.1.1: Identify how trade promoted economic growth in North America from pre-Columbian times to 1850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.5.E.1.2: Describe a market economy, and give examples of how the colonial and early American economy exhibited these characteristic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.5.E.1.3: Trace the development of technology and the impact of major inventions on business productivity during the early development of the United States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.5.E.2.1: Recognize the positive and negative effects of voluntary trade among Native Americans, European explorers, and colonist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National Economic Standar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Council on Economic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www.NCEE.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econedlink.org/less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0 FREE lesson plans; most are tied to quality children’s literatu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The Three Little Pigs, Town Mouse Country Mouse, Click, Clack Moo Cows that Typ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or online stories (provided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Rationale for Teaching Economic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 Reasoning-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(problem solvin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1.  Identify the question or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2.  List the altern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3.  Identify advantages and disadvantages of each altern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4.  Choose the best altern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5.  Reevaluate the consequences of the de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ample problem:  Soaring fuel cost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work in cooperative groups to discuss the issue; complete the shee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trategies for Teach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lvl="1"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s and Benefi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501480" indent="-26496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  pe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on and Ex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 food items; pancak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ncakes, Pancakes! By Eric Car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 sequence chart; ask critical thinking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Advertisement Activities </a:t>
            </a:r>
            <a:r>
              <a:rPr b="1" lang="en-US" sz="2200" spc="-1" strike="noStrike">
                <a:solidFill>
                  <a:srgbClr val="ff8d3e"/>
                </a:solidFill>
                <a:latin typeface="Verdana"/>
              </a:rPr>
              <a:t>p. 230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 YOUTUBE clip ie. Ads from the Super Bow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sinesses advertise their goods and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s must distinguish between F and 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e Advertising ID A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21:07:13Z</dcterms:created>
  <dc:creator>Lee-Anne</dc:creator>
  <dc:description/>
  <dc:language>en-US</dc:language>
  <cp:lastModifiedBy>testuser</cp:lastModifiedBy>
  <dcterms:modified xsi:type="dcterms:W3CDTF">2009-03-18T15:06:57Z</dcterms:modified>
  <cp:revision>10</cp:revision>
  <dc:subject/>
  <dc:title>Ch. 7 Economics</dc:title>
</cp:coreProperties>
</file>